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9F1A-37C3-420E-B8D4-42C544EDF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23A6-F1D7-4BD1-A378-8868D26F1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B241-AE3C-4580-9A65-48884A8B1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F0D7-AA55-4110-8B38-52DD323C0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B3AE6-5A7E-42A5-8DCB-FF6845C5D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83D1F-4C64-45BE-8C09-0A145400B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2DFC4-2E0B-4762-AB82-EC31E281C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D6B2C-EF3E-4111-8A48-F09975CC2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FE286-7903-4402-803B-BAB6EC78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1A037-180F-4F70-B603-1F31ECC27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4FE02-B9E7-488A-86CB-487AB45A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578C-F4BD-43F5-85BF-E3F7A3198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F6E2E-7C14-40D2-B2D6-9EF479A8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3D467-66A8-4535-8A47-CC5373D1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B4637-F045-4361-A1F5-69D9A0825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4AA51-252B-4B50-9F4D-9BACF4D0A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37156-7B4E-4D51-912D-117B1A3A8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FA36-ED57-4836-85B6-29C451E47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0E1C-CBE4-4CA4-B1E7-0E9C9BFEC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EA6F-3288-453B-B62C-EFEE4940D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7174-1331-4892-A6A1-4AD44FDBE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912B-2763-4103-B9B8-828824EC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35FF-7E51-4314-9714-A8485CF6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C3E4-59E4-4FC3-9121-DFF9CDD3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350CC-96EE-40C0-B694-C960D15E9A0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A402E-6EAA-4AF8-BD3B-98C7A9135C6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Arial"/>
              </a:rPr>
              <a:t>第十三章  货币一体化理论与欧洲货币一体化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Theories of Currency Area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 European Monetary Integr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第一节  最适货币区理论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一、蒙代尔与最适货币区理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最适货币区的两种类型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单一货币的货币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多种货币并存并通过固定汇率机制连接的货币区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两种货币区的调节机制比较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单一货币区内外均衡调节机制较优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最适货币区的条件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区内要素自由流动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对外实行浮动汇率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）政治变革、主权让渡与政治同盟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二、传统分析法（最适货币区条件论）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最适货币区条件主要有：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国际生产要素的流动性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经济开放程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产品多样性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金融一体化程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5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相近的通货膨胀率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6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政策一体化程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三、成本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—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收益分析法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一国加入货币区，有成本，也有收益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一、收益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消除投机资本区内流动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节约外汇储备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推动经济政策一体化和经济一体化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政治收益：提高国际协议地位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二、成本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丧失货币政策自主性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财政政策自主性受到限制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增大失业增加的可能性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打破原有的国内均衡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第二节  共同货币政策问题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一、共同货币单位与货币篮子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二、共同货币政策条件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三、单一货币问题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成本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—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收益分析：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收益：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291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成本：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29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第三节  欧洲货币一体化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一、欧洲货币体系的形成与发展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欧洲货币体系的形成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欧洲货币体系的主要内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欧洲货币单位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联合浮动的汇率机制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欧洲货币合作基金和信贷机制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欧洲货币体系成就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汇率最稳定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加强成员国在国际金融体系中地位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共同发展与政策协调；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为单一货币奠定基础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</a:rPr>
              <a:t>二、欧洲货币联盟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一、欧洲货币联盟的产生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二、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《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马斯特里赫特条约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》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与单一货币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三、欧洲单一货币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——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欧元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6T01:12:03Z</dcterms:created>
  <dc:creator>MS User</dc:creator>
  <dc:description/>
  <dc:language>en-US</dc:language>
  <cp:lastModifiedBy>Dell</cp:lastModifiedBy>
  <dcterms:modified xsi:type="dcterms:W3CDTF">2021-08-23T22:50:40Z</dcterms:modified>
  <cp:revision>13</cp:revision>
  <dc:subject/>
  <dc:title>第八章  货币一体化理论与欧洲货币一体化</dc:title>
</cp:coreProperties>
</file>